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F35-37C7-4EE9-AA43-CB2EA4BB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F52-DF8F-459A-8A48-8171EC87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4CA-0D75-4067-A807-C9DD6AC3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22B-8016-4E0A-BC43-DB781A05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12B-6EB0-40A0-B929-A6E37F30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04A-C66B-4738-B49D-F9BACF2F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4D9-4188-49D2-85B7-33EB111F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E16-7AFF-4EC0-AD3D-9387AFF5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2C6-DA5C-4AE8-AB51-D1E2B324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F68-BF9F-4224-A4C4-70B02989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3F9-2884-448B-B86E-248C4958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D3E-22A8-44A0-85B9-576314A8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B931-9A93-4117-8F7F-0033FA52F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IL AND CROP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technolog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ment of nutrient limitations – nutrient limiting trials across domains (this will inform modeling activities la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evaluation of integrated technologies (varieties, balanced nutrient inputs, IPM, water manag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 monitoring system - for diseases, crop productivity in farmers’ fields, soil fertility surveys, land degradation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evaluation of labour saving techn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pesticide mis(use) in vegetable gard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mycotoxins, particularly groundnut and ma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-ante analysis of different land management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NOW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esearch for agric inputs delivery mechanis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s  - market input  (seed, fertilizer supply, pesticides, farm implements ….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the relevant regulatory body to carry out quality control of different inputs in the market of technolog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evelop information related to the use and impact of different agric inpu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 alternative input delivery mechanisms/ accessibility for different household typologies – private, public, NGOs, farmer organizations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ment of nutrient limitations – nutrient limiting trials across domains (this will inform modeling activities l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evaluation of integrated technologies (varieties, balanced nutrient inputs, IPM, water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 monitoring system - for diseases, crop productivity in farmers’ fields, soil fertility surveys, land degradation assess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evaluation of labour saving technolog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 pesticide mis(use) in vegetable gard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aluate mycotoxins, particularly groundnut and maiz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-ante analysis of different land management opt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228600"/>
          <a:ext cx="8686800" cy="5486400"/>
        </p:xfrm>
        <a:graphic>
          <a:graphicData uri="http://schemas.openxmlformats.org/drawingml/2006/table">
            <a:tbl>
              <a:tblPr/>
              <a:tblGrid>
                <a:gridCol w="3809880"/>
                <a:gridCol w="2743200"/>
                <a:gridCol w="21337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should be part of the Research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t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tic nutrient limitations 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evaluation of technologies -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, MSU, SUA, IITA, ICRISAT,  Bunda College, CIMM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N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monitoring system -  diseases, crop prodc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ICRAF, UNZA, CIAT, M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N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evaluation of labour saving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, Other cen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MAT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 pesticide mis(use) in vegetable gard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mycotoxins, particularly groundnut an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-ante analysis of different land management op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ICRI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, MSU,CIAT, ICR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RI in Tanza, N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DA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914400"/>
          <a:ext cx="9144000" cy="5029200"/>
        </p:xfrm>
        <a:graphic>
          <a:graphicData uri="http://schemas.openxmlformats.org/drawingml/2006/table">
            <a:tbl>
              <a:tblPr/>
              <a:tblGrid>
                <a:gridCol w="3809880"/>
                <a:gridCol w="2286000"/>
                <a:gridCol w="30481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should be part of the 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t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the relevant regulatory body to carry out quality control of different inputs in the market of technolog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information related to the use and impact of different agric 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alternative input delivery mechanisms/ accessibility for different household typologies – private, public, NGOs, farmer organization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cen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centres, M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regulatory auth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Rs, NGOs, private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regulatory auth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IL AND CROP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your group name under th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828800" y="19810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il –Crop Group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ize based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groecolog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762120"/>
          <a:ext cx="7772400" cy="5851440"/>
        </p:xfrm>
        <a:graphic>
          <a:graphicData uri="http://schemas.openxmlformats.org/drawingml/2006/table">
            <a:tbl>
              <a:tblPr/>
              <a:tblGrid>
                <a:gridCol w="2274840"/>
                <a:gridCol w="2654280"/>
                <a:gridCol w="2843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 (&gt;1100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humid (500-1100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-arid (&lt;800 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(early and drought toleran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peas (plant lat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p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ichos lablab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s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ichos lablab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s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ice of var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apted varie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in legumes with high H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mbing beans –high altitu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mporal and spatial crop arrang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p ro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cropping (maize-pigeonpe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ubled-up legumes (pigeon pea –groundnut/cowpea) –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xploit resource use niche complementar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t input from farmer action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introduce systems from other regions e.g. Cowpea from west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il fertility and nutrient man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agnostic nutrient trials (establish nutrient limitat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rgeted combinations of nutrients (organic/inorganic) for the cropping system and soil typ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ro dos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ponsive system of N application based on rainfall season quality – withhold resources when it does no longer make economic sense to app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iar application of micronutrients (Zinc, boron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ding to farm typologies and domai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560" y="9140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il and water conserv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for semi arid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cover technologies - semi-arid and sandy so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agriculture (soil cove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dging, terracing,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rehab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ginal lands – species with high biomass and soil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520" y="9140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lerant/resistant var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, diagnostics and responsiv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zapyr resistant  (IR maize) - this pesticide kills str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rtilit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s/intercr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sh-Pull (crop –livestock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ultural practices to pre-empt and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icide use – appropriate use for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cotoxins –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560" y="685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ur saving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zation for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oug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harves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of storage techniques/facilities e.g bags, si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comb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ropriate varieties + cultural practices +soil fertility management + IPM + labour saving technologies +post harvest and safety oriented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3:14Z</dcterms:modified>
  <cp:revision>53</cp:revision>
  <dc:subject/>
  <dc:title>What component technologies  would fit in this system?</dc:title>
</cp:coreProperties>
</file>